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51776"/>
        <c:axId val="88002537"/>
      </c:barChart>
      <c:catAx>
        <c:axId val="30251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02537"/>
        <c:crosses val="autoZero"/>
        <c:auto val="1"/>
        <c:lblAlgn val="ctr"/>
        <c:lblOffset val="100"/>
        <c:noMultiLvlLbl val="0"/>
      </c:catAx>
      <c:valAx>
        <c:axId val="88002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1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F8D-DB6B-4833-A51D-EF7F0717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1BD-8FFC-44E0-951E-2498C207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449-20A2-4EDC-B533-84814D43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47A-E7E0-4DFB-BFC3-AF60C029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286-9168-4AFC-8ADD-4E088030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90F-CE92-4E7D-A7DC-10753476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516-D3AC-4049-805F-B71F45C5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14D-101C-41A9-B6BB-F001335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FCC-6BDA-4C48-B74C-73F7F3DF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046-AA14-480C-884E-04E15BD3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403-C5B0-4BC7-846E-37D5BB9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7DB-E0FC-4858-9EFD-8D318F2B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BBEEA-6013-44CA-B39C-82081E8A6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